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9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674F-C35C-4A18-8648-B3E64449EC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AF04-7835-4DE2-8867-7BDD4E6174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0D3-E688-4723-8979-B0BC12FB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0C7-995C-4A78-BAEF-0E66B7C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6D2-44E4-4B52-B513-7A3E7AAB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9C8-5F4D-4D68-9F62-85F45353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878-27B4-495C-B4AC-FBF90DD3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8A4-D81A-49BB-9A9B-3881D24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D34-6752-4CEE-A0E4-410860A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867-ADF6-423C-860D-E7F3815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A47-2F0A-4A51-A683-AD6C6FC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CB3-7D00-4134-8D23-E4DA36F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765-49EC-475E-8A32-1534445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356-6446-45D8-8709-0799056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Prostokąt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EDFE-BD62-44F8-8488-30B68BF13725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G:/egzamin8klasisty/Komunikat%20o%20dostosowaniach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lidos.pl/image/tid/4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szafa.pl/uploads/clothes/d110/113490/1230462606.jpg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pl/imgres?imgurl=http://sklep.legia.com/sklep/images/product/2e9d7008701e65237a6b1d980606bda4.jpg&amp;imgrefurl=http://sklep.legia.com/sklep/index.php?c=69&amp;p=99&amp;usg=__XmuytwEAVZCa2vg5OBzVP4uHITo=&amp;h=466&amp;w=466&amp;sz=39&amp;hl=pl&amp;start=3&amp;um=1&amp;tbnid=HlxH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images.google.pl/imgres?imgurl=http://www.math.niu.edu/~behr/Polish/Gottwald/Gnoinski/jg-legitymacja.jpg&amp;imgrefurl=http://www.math.niu.edu/~behr/Polish/Gottwald/Gnoinski/&amp;usg=__IZtVPpZ_rVIH1VI2VlBuxwEUOUE=&amp;h=425&amp;w=309&amp;sz=49&amp;hl=pl&amp;start=8&amp;tbnid=MTXFo6YMB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images.google.pl/imgres?imgurl=http://i.wp.pl/a/i/zakupy3/rqm/7023/x_13695.jpg&amp;imgrefurl=http://zakupy.wp.pl/Kalkulator-Biurowy-Bt-8003-2946-191571.html&amp;usg=__R0hzp12aW6GXnqfyLCBILYEC2Ik=&amp;h=450&amp;w=450&amp;sz=17&amp;hl=pl&amp;start=14&amp;tbnid=JmtyfJDfaHetvM:&amp;tbnh=127&amp;t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pl/imgres?imgurl=http://www.swiat-zabawek.pl/galerie/b/baby-annabell-torba-z-ak_512.jpg&amp;imgrefurl=http://www.swiat-zabawek.pl/index.php?p809,baby-annabell-torba-z-akcesoriami&amp;usg=__eLmfOsWWFGssuS249ILBjOXxDlk=&amp;h=400&amp;w=400&amp;sz=28&amp;hl=pl&amp;start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pl/imgres?imgurl=http://www.hoopla.pl/images/action/TELSA1KOM0076_l.jpg&amp;imgrefurl=http://www.hoopla.pl/Samsung,SAMSUNG-Telefon-Komorkowy-SGH-E250-Czarny,prod,Opinions,58384.html&amp;usg=__h09S7RF-0-Xc9AQJddYoj8F_7ow=&amp;h=1336&amp;w=882&amp;sz=105&amp;hl=pl&amp;" TargetMode="External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olimpiady7-r.pd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2b69"/>
                </a:solidFill>
                <a:latin typeface="Trebuchet MS"/>
              </a:rPr>
              <a:t>15, 16, 17 kwietnia 2019 r.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2b69"/>
                </a:solidFill>
                <a:latin typeface="Trebuchet MS"/>
              </a:rPr>
              <a:t>EGZAMIN ÓSMOKLASIST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772b69"/>
                </a:solidFill>
                <a:latin typeface="Times New Roman"/>
              </a:rPr>
              <a:t>Informacje dla rodziców i ucznió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-360" y="1483920"/>
            <a:ext cx="817236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Uczniowie (słuchacze) posiadający opinię / orzeczenie poradni psychologiczno-pedagogicznej lub zaświadczenie lekarskie o chorobie lub czasowej niesprawności oraz ci, którzy mają pozytywną opinię rady pedagogicznej, mają prawo do przystąpienia do egzaminu w warunkach i formie dostosowanych do ich dysfunkcji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zgodnie z Komunikatem dyrektora Centralnej Komisji Egzaminacyjnej z 20 sierpnia 2018r. w sprawie szczegółowych sposobów dostosowania warunków i form przeprowadzania egzaminu ósmoklasisty i egzaminu gimnazjalnego w roku szkolnym 2018/2019, opublikowanym na stronie internetowej CKE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Plik PDF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G:\egzamin8klasisty\Komunikat o dostosowaniach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79200" y="255600"/>
            <a:ext cx="7491600" cy="7254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2"/>
          <p:cNvSpPr/>
          <p:nvPr/>
        </p:nvSpPr>
        <p:spPr>
          <a:xfrm>
            <a:off x="684360" y="2136600"/>
            <a:ext cx="69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stanie zdrowia i opinię poradni psychologicz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pedagogicznej, przedkłada się dyrektorowi szkoły nie później niż do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15 października 2018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rektor szkoły lub upoważniony przez niego nauczyciel informuje na piśmie rodziców ucznia o wskazanym przez radę pedagogiczną sposobie lub sposobach dostos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unków lub formy przeprowadzania egzaminu ósmokl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jego potrzeb edukacyjnych i możliwości psychofizycznych, nie później niż do 20listopada 2018r.(załącznik 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składają oświadczenie (również w załączniku 4b) o korzystaniu albo niekorzystaniu ze wskazanych sposobów dostosowania w terminie 3 dni roboczych od dnia otrzymania informacji, nie później niż do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23listopada 2018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4000" spc="-1" strike="noStrike">
                <a:solidFill>
                  <a:srgbClr val="000000"/>
                </a:solidFill>
                <a:latin typeface="Trebuchet MS"/>
              </a:rPr>
              <a:t>W dniu pisania egzaminu obowiązuje ubiór galow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Mundurki szkol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00080" y="3643200"/>
            <a:ext cx="1785960" cy="205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Zobacz obraz w pełnych rozmiara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8800" y="5143680"/>
            <a:ext cx="2000160" cy="1333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6"/>
          <a:stretch/>
        </p:blipFill>
        <p:spPr>
          <a:xfrm>
            <a:off x="3657600" y="3657600"/>
            <a:ext cx="3819600" cy="2281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04560" y="1599840"/>
            <a:ext cx="79246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Uczniowie przychodzą do szkoł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o 8</a:t>
            </a:r>
            <a:r>
              <a:rPr b="0" lang="pl-PL" sz="3600" spc="-1" strike="noStrike" baseline="30000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 i w szatni czekają na wychowawcę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Zebranie wszystkich klas o 8</a:t>
            </a:r>
            <a:r>
              <a:rPr b="0" lang="pl-PL" sz="36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w holu- II piętro,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kolejno 8a, 8b, 8c, 8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ytuł 1" descr=""/>
          <p:cNvPicPr/>
          <p:nvPr/>
        </p:nvPicPr>
        <p:blipFill>
          <a:blip r:embed="rId1"/>
          <a:stretch/>
        </p:blipFill>
        <p:spPr>
          <a:xfrm>
            <a:off x="0" y="-648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Uczeń przynosi ze sobą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legitymację szkolną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przybory do pisania (pióro lub długopis czarno piszący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przybory do rysowania – </a:t>
            </a:r>
            <a:r>
              <a:rPr b="0" lang="pl-PL" sz="3200" spc="-1" strike="noStrike" u="sng">
                <a:solidFill>
                  <a:srgbClr val="ff0000"/>
                </a:solidFill>
                <a:uFillTx/>
                <a:latin typeface="Trebuchet MS"/>
              </a:rPr>
              <a:t>tylko linijk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(na matematykę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uczeń może wziąć ze sobą małą butelkę wody niegazowanej (stawia ją na podłodze przy stoliku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http://tbn3.google.com/images?q=tbn:HlxHWKOgSoexIM:http://sklep.legia.com/sklep/images/product/2e9d7008701e65237a6b1d980606bda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1840" y="2206800"/>
            <a:ext cx="1231920" cy="1231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tbn1.google.com/images?q=tbn:MTXFo6YMBH9X5M:http://www.math.niu.edu/~behr/Polish/Gottwald/Gnoinski/jg-legitymacj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1285920"/>
            <a:ext cx="8762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ytuł 1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7486560" cy="1273320"/>
          </a:xfrm>
          <a:prstGeom prst="rect">
            <a:avLst/>
          </a:prstGeom>
          <a:ln w="0">
            <a:noFill/>
          </a:ln>
        </p:spPr>
      </p:pic>
      <p:sp>
        <p:nvSpPr>
          <p:cNvPr id="237" name="pole tekstowe 2"/>
          <p:cNvSpPr/>
          <p:nvPr/>
        </p:nvSpPr>
        <p:spPr>
          <a:xfrm>
            <a:off x="179280" y="1052640"/>
            <a:ext cx="799308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Każdy zdający powinien mieć na egzaminie ósmoklasisty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z każdego przedmiotu długopis (lub pióro) </a:t>
            </a:r>
            <a:r>
              <a:rPr b="0" lang="pl-PL" sz="2300" spc="-1" strike="noStrike" u="sng">
                <a:solidFill>
                  <a:srgbClr val="000000"/>
                </a:solidFill>
                <a:uFillTx/>
                <a:latin typeface="Trebuchet MS"/>
              </a:rPr>
              <a:t>z czarny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tuszem (atramentem)przeznaczony do zapisywania rozwiązań (odpowiedzi). </a:t>
            </a:r>
            <a:r>
              <a:rPr b="0" i="1" lang="pl-PL" sz="2400" spc="-1" strike="noStrike">
                <a:solidFill>
                  <a:srgbClr val="ff0000"/>
                </a:solidFill>
                <a:latin typeface="Arial"/>
              </a:rPr>
              <a:t>Niedozwolone jest korzystanie z długopisów zmazywalnych / ścieralnych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2. Dodatkowo na egzaminie z matematyki każdy zdający powinien mieć </a:t>
            </a:r>
            <a:r>
              <a:rPr b="0" lang="pl-PL" sz="2300" spc="-1" strike="noStrike" u="sng">
                <a:solidFill>
                  <a:srgbClr val="ff0000"/>
                </a:solidFill>
                <a:uFillTx/>
                <a:latin typeface="Trebuchet MS"/>
              </a:rPr>
              <a:t>linijkę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Rysunki –jeżeli trzeba je wykonać 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zdający wykonują długopis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300" spc="-1" strike="noStrike" u="sng">
                <a:solidFill>
                  <a:srgbClr val="000000"/>
                </a:solidFill>
                <a:uFillTx/>
                <a:latin typeface="Trebuchet MS"/>
              </a:rPr>
              <a:t>Nie wykonuje się rysunków ołówkiem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3.Z dodatkowych materiałów oraz przyborów pomocniczych mogą korzystać zdający, którym dostosowano warunki przeprowadzania egzaminu ósmoklasisty. Zdający korzystają ze sprzętu, którego już używają w procesie dydaktycz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ole tekstowe 1"/>
          <p:cNvSpPr/>
          <p:nvPr/>
        </p:nvSpPr>
        <p:spPr>
          <a:xfrm>
            <a:off x="395280" y="1341360"/>
            <a:ext cx="70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Osoby z chorobami przewlekłymi, chore lub niesprawne czasowo mogą korzystać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z zaleconego przez lekarza sprzętu medycznego i leków koniecznych ze względu na chorob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urządzeń telekomunikacyjny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kalkulatoró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siatek, tore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maskotek itp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a w zegarkach wyłączyć odmierzacz czas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" descr="http://tbn2.google.com/images?q=tbn:JmtyfJDfaHetvM:http://i.wp.pl/a/i/zakupy3/rqm/7023/x_1369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214308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242" name="Łącznik prosty 5"/>
          <p:cNvSpPr/>
          <p:nvPr/>
        </p:nvSpPr>
        <p:spPr>
          <a:xfrm>
            <a:off x="3571920" y="207180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Łącznik prosty 7"/>
          <p:cNvSpPr/>
          <p:nvPr/>
        </p:nvSpPr>
        <p:spPr>
          <a:xfrm flipH="1">
            <a:off x="3714480" y="207108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tbn3.google.com/images?q=tbn:TYerwL05HJBG7M:http://www.swiat-zabawek.pl/galerie/b/baby-annabell-torba-z-ak_51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2357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245" name="Łącznik prosty 9"/>
          <p:cNvSpPr/>
          <p:nvPr/>
        </p:nvSpPr>
        <p:spPr>
          <a:xfrm flipH="1">
            <a:off x="5785920" y="235656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Łącznik prosty 10"/>
          <p:cNvSpPr/>
          <p:nvPr/>
        </p:nvSpPr>
        <p:spPr>
          <a:xfrm>
            <a:off x="5643720" y="221472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http://tbn2.google.com/images?q=tbn:zFCCnVxa2mPJ9M:http://www.hoopla.pl/images/action/TELSA1KOM0076_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9040" y="471492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2.google.com/images?q=tbn:9pGmb4aufc6qnM:http://www.wrzuta.pl/img/file/mJzTeAfO8C/maskotka_pinboli"/>
          <p:cNvPicPr/>
          <p:nvPr/>
        </p:nvPicPr>
        <p:blipFill>
          <a:blip r:embed="rId8"/>
          <a:stretch/>
        </p:blipFill>
        <p:spPr>
          <a:xfrm>
            <a:off x="5715000" y="492912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249" name="Łącznik prosty 15"/>
          <p:cNvSpPr/>
          <p:nvPr/>
        </p:nvSpPr>
        <p:spPr>
          <a:xfrm>
            <a:off x="3643200" y="4714920"/>
            <a:ext cx="150048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Łącznik prosty 16"/>
          <p:cNvSpPr/>
          <p:nvPr/>
        </p:nvSpPr>
        <p:spPr>
          <a:xfrm>
            <a:off x="5500800" y="485784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Łącznik prosty 17"/>
          <p:cNvSpPr/>
          <p:nvPr/>
        </p:nvSpPr>
        <p:spPr>
          <a:xfrm flipH="1">
            <a:off x="5571720" y="48571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Łącznik prosty 18"/>
          <p:cNvSpPr/>
          <p:nvPr/>
        </p:nvSpPr>
        <p:spPr>
          <a:xfrm flipH="1">
            <a:off x="3642840" y="478548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42680"/>
            <a:ext cx="8028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dający wchodzą do sali pojedynczo, według kolejności na liście i zajmują miejsca przy stolikach, których numery wylosowali. Każdy uczeń powinien mieć przy sobie dokument stwierdzający tożsamość (np. ważną legitymację szkolną) i okazać go, jeśli zostanie o to poproszon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http://tbn0.google.com/images?q=tbn:uG189c_cvw21SM:http://www.gim3.zary.pl/images2004/egzamin2004_6.jpg"/>
          <p:cNvPicPr/>
          <p:nvPr/>
        </p:nvPicPr>
        <p:blipFill>
          <a:blip r:embed="rId2"/>
          <a:stretch/>
        </p:blipFill>
        <p:spPr>
          <a:xfrm>
            <a:off x="1714680" y="5286240"/>
            <a:ext cx="1304640" cy="981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http://tbn3.google.com/images?q=tbn:5_-PzR9UUd4nuM:http://home.elka.pw.edu.pl/~achrusto/wyniki_egzaminu1_SYST.gif"/>
          <p:cNvPicPr/>
          <p:nvPr/>
        </p:nvPicPr>
        <p:blipFill>
          <a:blip r:embed="rId3"/>
          <a:stretch/>
        </p:blipFill>
        <p:spPr>
          <a:xfrm>
            <a:off x="6357960" y="428760"/>
            <a:ext cx="1343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ytuł 1" descr=""/>
          <p:cNvPicPr/>
          <p:nvPr/>
        </p:nvPicPr>
        <p:blipFill>
          <a:blip r:embed="rId1"/>
          <a:stretch/>
        </p:blipFill>
        <p:spPr>
          <a:xfrm>
            <a:off x="0" y="-579600"/>
            <a:ext cx="749124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-360" y="692280"/>
            <a:ext cx="8318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8a2e4e"/>
                </a:solidFill>
                <a:latin typeface="Trebuchet MS"/>
              </a:rPr>
              <a:t>Po otrzymaniu arkusza (godz. 9.00 -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niowie spóźnieni nie będą wpuszczani na salę</a:t>
            </a:r>
            <a:r>
              <a:rPr b="1" i="1" lang="pl-PL" sz="2400" spc="-1" strike="noStrike">
                <a:solidFill>
                  <a:srgbClr val="8a2e4e"/>
                </a:solidFill>
                <a:latin typeface="Trebuchet MS"/>
              </a:rPr>
              <a:t>)</a:t>
            </a:r>
            <a:r>
              <a:rPr b="1" i="1" lang="pl-PL" sz="3200" spc="-1" strike="noStrike">
                <a:solidFill>
                  <a:srgbClr val="8a2e4e"/>
                </a:solidFill>
                <a:latin typeface="Trebuchet MS"/>
              </a:rPr>
              <a:t> </a:t>
            </a:r>
            <a:br>
              <a:rPr sz="3200"/>
            </a:br>
            <a:r>
              <a:rPr b="1" i="1" lang="pl-PL" sz="2400" spc="-1" strike="noStrike">
                <a:solidFill>
                  <a:srgbClr val="000000"/>
                </a:solidFill>
                <a:latin typeface="Trebuchet MS"/>
              </a:rPr>
              <a:t>zdający ma obowiązek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rebuchet MS"/>
              </a:rPr>
              <a:t>a) zapoznać się z instrukcją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b) sprawdzić, czy materiały egzaminacyjne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są komplet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c) sprawdzić, czy materiały egzaminacyjne zawierają wszystkie kolejno ponumerowane strony, czy są wyraźnie wydrukowane, czy w zeszycie zadań znajduje się wymieniona w instrukcji liczba zadań; braki powinien natychmiast zgłosić przewodniczącemu zespołu nadzorującego, po otrzymaniu kompletnego arkusza potwierdzić jego odbiór czytelnym podpisem w odpowiednim miejscu protokołu przebiegu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ytuł 1" descr=""/>
          <p:cNvPicPr/>
          <p:nvPr/>
        </p:nvPicPr>
        <p:blipFill>
          <a:blip r:embed="rId1"/>
          <a:stretch/>
        </p:blipFill>
        <p:spPr>
          <a:xfrm>
            <a:off x="0" y="32868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6840" y="160920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Prawa i obowiązki ucznia (słuchacza) przystępującego do egzaminu ósmoklasisty określa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rozporządzenie Ministra Edukacji Narodowej z dnia1 sierpnia 2017r. w sprawie szczegółowych warunków i sposobu przeprowadzania egzaminu ósmoklasisty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(Dz.U. z 2017r. poz. 1512)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285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)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sprawdzić poprawność numeru PESEL na naklejkach przygotowanych przez OKE, zapisać swój trzyznakowy kod, numer PESEL oraz umieścić naklejki przygotowane przez OKE w wyznaczonych miejscach (w przypadku uczniów z afazją i uczniów ze specyficznymi trudnościami w uczeniu się czynności związane z kodowaniem wykonują członkowie zespołu nadzorującego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1280" y="47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b13f9a"/>
                </a:solidFill>
                <a:latin typeface="Arial"/>
              </a:rPr>
              <a:t>Kod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0" y="-6480"/>
            <a:ext cx="7491240" cy="987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-360" y="1052280"/>
            <a:ext cx="817236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Czas przeznaczony na rozwiązywanie zadań liczy się od momentu zapisania na tablicy (planszy) godziny rozpoczęcia pracy i wynosi odpowiednio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6804000" y="0"/>
            <a:ext cx="114768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0" y="2492280"/>
            <a:ext cx="847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ytuł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2876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pracuje samodzielni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rzeszkadza innym (w przypadku naruszenia tego punktu przewodniczący może przerwać pracę i uczeń pisze powtórnie egzamin w innym terminie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nie opuszcza sali ani swojego miejsca do momentu zakończenia pracy </a:t>
            </a: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(może opuścić tylko w uzasadnionych przypadkach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i za zgodą przewodniczącego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orozumiewa się z innymi i nie zadaje pytań nauczycielo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wypowiada uwag i komentarz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0" y="255600"/>
            <a:ext cx="7858080" cy="1158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uważnie czyta treść kolejnych zadań zamkniętych i koduje wybrane odpowiedz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odpowiednim miejscu tabeli na karcie odpowiedz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ff0000"/>
                </a:solidFill>
                <a:uFillTx/>
                <a:latin typeface="Trebuchet MS"/>
              </a:rPr>
              <a:t>Uczniowie ze specyficznymi trudnościam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nie przenoszą odpowiedzi na kartę odpowiedzi, zaznaczają je tylko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pracy znakiem 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18954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ytuł 1" descr=""/>
          <p:cNvPicPr/>
          <p:nvPr/>
        </p:nvPicPr>
        <p:blipFill>
          <a:blip r:embed="rId1"/>
          <a:stretch/>
        </p:blipFill>
        <p:spPr>
          <a:xfrm>
            <a:off x="0" y="255600"/>
            <a:ext cx="744840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dający rozwiązuje zadania, zaznacza lub zapisuje odpowiedzi w wyznaczonych miejscach wyłącznie długopisem lub piórem z czarnym tuszem/atramentem (</a:t>
            </a:r>
            <a:r>
              <a:rPr b="0" lang="pl-PL" sz="2600" spc="-1" strike="noStrike">
                <a:solidFill>
                  <a:srgbClr val="ff0000"/>
                </a:solidFill>
                <a:latin typeface="Trebuchet MS"/>
              </a:rPr>
              <a:t>rysunk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również wykonuje </a:t>
            </a:r>
            <a:r>
              <a:rPr b="0" lang="pl-PL" sz="2600" spc="-1" strike="noStrike">
                <a:solidFill>
                  <a:srgbClr val="ff0000"/>
                </a:solidFill>
                <a:latin typeface="Trebuchet MS"/>
              </a:rPr>
              <a:t>długopisem)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rzyozdabia prac zbędnymi malunkam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gdzie nie podpisuje się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08400" y="4786200"/>
            <a:ext cx="1611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000" y="476280"/>
            <a:ext cx="738972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przypadku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stwierdzenia niesamodzielnego rozwiązywania zadań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niesienia przez ucznia do sali urządzenia telekomunikacyjnego albo korzystania przez ucznia z urządzenia telekomunikacyjnego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sali egzaminacyjn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akłócania przez ucznia prawidłowego przebiegu egzaminu w sposób utrudniający pracę pozostałym uczni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zewodniczący SZE przerywa danemu uczniowi pracę z danym arkuszem egzaminacyjnym, unieważnia mu odpowiednią część egzamin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i nakazuje opuszczenie sali egzaminacyjnej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875640" y="0"/>
            <a:ext cx="11077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0" y="-244440"/>
            <a:ext cx="7491240" cy="115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-360" y="83664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zed wyjściem z sali uczeń powinien sprawdzić czy dobrze wpisał swój kod i numer PESEL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dwóch wyznaczonych miejscach oraz czy wykonał wszystkie polecenia i zaznaczył odpowiedzi do zadań zamkniętych na karcie odpowiedz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Jeśli zdający ukończył pracę przed czasem, zgłasza to zespołowi nadzorującemu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rebuchet MS"/>
              </a:rPr>
              <a:t>przez podniesienie ręki.  Pozostaje na swoim miejscu </a:t>
            </a: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dopóki nie uzyska zgody na opuszczenie sali po uprzednim sprawdzeniu przez członków zespołu nadzorującego 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poprawności kodowania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kompletności materiałów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wypełnienia karty odpowiedzi</a:t>
            </a:r>
            <a:r>
              <a:rPr b="0" lang="pl-PL" sz="21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odobnie po zakończeniu czasu uczniowie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rebuchet MS"/>
              </a:rPr>
              <a:t>pozostają na miejscach 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opóki nie uzyskają zgody na opuszczenie sali</a:t>
            </a: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ytuł 1" descr=""/>
          <p:cNvPicPr/>
          <p:nvPr/>
        </p:nvPicPr>
        <p:blipFill>
          <a:blip r:embed="rId1"/>
          <a:stretch/>
        </p:blipFill>
        <p:spPr>
          <a:xfrm>
            <a:off x="0" y="-244440"/>
            <a:ext cx="749124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-360" y="83664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o upływie czasu przeznaczonego na rozwiązywanie zadań uczniowie, którzy przenoszą odpowiedzi na kartę, mają 5 dodatkowych minut, żeby sprawdzić poprawność wykonania tej czynności. Ten czas </a:t>
            </a:r>
            <a:r>
              <a:rPr b="1" lang="pl-PL" sz="2600" spc="-1" strike="noStrike" u="sng">
                <a:solidFill>
                  <a:srgbClr val="000000"/>
                </a:solidFill>
                <a:uFillTx/>
                <a:latin typeface="Trebuchet MS"/>
              </a:rPr>
              <a:t>nie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może być wykorzystany na rozwiązywanie zadań, a wyłącznie na weryfikację poprawności przeniesienia rozwiązań na kartę odpowiedzi. Po upływie 5 minut zdający kończą pracę z arkuszem egzaminacyjnym i stosują się do poleceń przewodniczącego zespołu nadzorującego. Zdający, którzy nie zdążyli przenieść odpowiedzi na kartę odpowiedzi, zgłaszają ten fakt nauczycielowi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o zakończeniu egzaminu nauczyciele nadzorujący egzamin pozostają w sali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zenoszą na matrycę znaków trzyznakowy kod ucznia, porządkują prace, wkładają je do bezpiecznych kopert wraz z wypełnionymi i podpisanymi 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Protokołami sprawdzan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zedstawiciele uczniów pozostają na sali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i przyglądają się czynnościom nauczycie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isemne zastrzeżenia w sprawie naruszenia przepisów dotyczących przeprowadzenia egzaminu rozpatruje dyrektor OKE (zastrzeżenia te trzeba zgłosić najpóźniej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dwa dni od daty sprawdzianu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50004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ace uczniów danej szkoły będą starannie ocenione przez zespół egzaminatorów przeszkolonych przez OKE. Wszyscy egzaminatorzy oceniający prace uczniów będą stosować jednolite w całej Polsce kryteria ocenian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ynik egzaminu ustali OKE na podstawie liczby punktów przyznanych przez egzaminatoró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ystawione przez OKE zaświadczenie o wyniku egzaminu uczeń odbiera w szko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Laureaci konkursów przedmiotowych są zwolnieni z odpowiedniej części egzaminu, a na zaświadczeniu otrzymują najwyższy wynik z tej częśc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900000"/>
            <a:ext cx="8820000" cy="5058000"/>
          </a:xfrm>
          <a:prstGeom prst="rect">
            <a:avLst/>
          </a:prstGeom>
          <a:ln w="0">
            <a:noFill/>
          </a:ln>
        </p:spPr>
      </p:pic>
      <p:pic>
        <p:nvPicPr>
          <p:cNvPr id="208" name="Tytuł 1" descr=""/>
          <p:cNvPicPr/>
          <p:nvPr/>
        </p:nvPicPr>
        <p:blipFill>
          <a:blip r:embed="rId2"/>
          <a:stretch/>
        </p:blipFill>
        <p:spPr>
          <a:xfrm>
            <a:off x="1036800" y="-6480"/>
            <a:ext cx="64544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167680" cy="2736720"/>
          </a:xfrm>
          <a:prstGeom prst="rect">
            <a:avLst/>
          </a:prstGeom>
          <a:ln w="0">
            <a:noFill/>
          </a:ln>
        </p:spPr>
      </p:pic>
      <p:pic>
        <p:nvPicPr>
          <p:cNvPr id="284" name="Tytuł 1" descr=""/>
          <p:cNvPicPr/>
          <p:nvPr/>
        </p:nvPicPr>
        <p:blipFill>
          <a:blip r:embed="rId2"/>
          <a:stretch/>
        </p:blipFill>
        <p:spPr>
          <a:xfrm>
            <a:off x="237960" y="328680"/>
            <a:ext cx="7253280" cy="804960"/>
          </a:xfrm>
          <a:prstGeom prst="rect">
            <a:avLst/>
          </a:prstGeom>
          <a:ln w="0">
            <a:noFill/>
          </a:ln>
        </p:spPr>
      </p:pic>
      <p:sp>
        <p:nvSpPr>
          <p:cNvPr id="285" name="pole tekstowe 5"/>
          <p:cNvSpPr/>
          <p:nvPr/>
        </p:nvSpPr>
        <p:spPr>
          <a:xfrm>
            <a:off x="324000" y="4292640"/>
            <a:ext cx="79200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niki egzaminu nie będą miały wpływu na ukończenie szkoły podstaw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uczniów, których końcowa klasyfikacja zależy od wyników egzaminów klasyfikacyjnych, przekazanie zaświadczenia lub informacji o szczegółowych wynikach Egzaminu ósmoklasisty następuje po rozstrzygnięciu o klasyfikacji końc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24000" y="1356840"/>
            <a:ext cx="770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niki egzaminu ósmoklasisty są przedstawiane w procentach i na skali centylowej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nik ustalony przez OKE jest ostateczny. Zaświadczenie o wyniku zostanie przekazane do szkoł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Szczegółową informację o wyniku sprawdzianu wraz z komentarzem można będzie uzyskać także za pomocą internetowego 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systemu OBIEG (www.oke.krakow.pl). Termin udostępnienia powyższych informacji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będzie podany na stronie internetowej OK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7"/>
          <p:cNvSpPr/>
          <p:nvPr/>
        </p:nvSpPr>
        <p:spPr>
          <a:xfrm>
            <a:off x="250920" y="620640"/>
            <a:ext cx="7750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wniosek ucznia lub jego rodziców (prawnych opiekunów) w miejscu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 czasie wskazanym przez dyrektora OKE uczniowi lub jego rodzicom (prawnym opiekunom) jest udostępniana do wglądu sprawdzona i oceniona praca ucznia, obejmująca materiały przekazane po sprawdzianie ze szkoły do O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499160" cy="27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5014f"/>
                </a:solidFill>
                <a:latin typeface="Trebuchet MS"/>
              </a:rPr>
              <a:t>Informacje o egzaminie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15014f"/>
                </a:solidFill>
                <a:latin typeface="Trebuchet MS"/>
              </a:rPr>
              <a:t> dostępne na stronach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5280" y="3789360"/>
            <a:ext cx="7499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rebuchet MS"/>
              </a:rPr>
              <a:t>www.oke.krakow.p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41b10"/>
                </a:solidFill>
                <a:latin typeface="Arial"/>
                <a:ea typeface="Arial"/>
              </a:rPr>
              <a:t>www.cke.edu.pl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8163000" cy="4968720"/>
          </a:xfrm>
          <a:prstGeom prst="rect">
            <a:avLst/>
          </a:prstGeom>
          <a:ln w="0">
            <a:noFill/>
          </a:ln>
        </p:spPr>
      </p:pic>
      <p:pic>
        <p:nvPicPr>
          <p:cNvPr id="210" name="pole tekstowe 2" descr=""/>
          <p:cNvPicPr/>
          <p:nvPr/>
        </p:nvPicPr>
        <p:blipFill>
          <a:blip r:embed="rId2"/>
          <a:stretch/>
        </p:blipFill>
        <p:spPr>
          <a:xfrm>
            <a:off x="738360" y="390600"/>
            <a:ext cx="714996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8390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Tytuł 1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rostokąt 1"/>
          <p:cNvSpPr/>
          <p:nvPr/>
        </p:nvSpPr>
        <p:spPr>
          <a:xfrm>
            <a:off x="324000" y="1341360"/>
            <a:ext cx="7920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szczególnych przypadkach losowych lub zdrowotnych, uniemożliwiających przystąpienie do egzaminu ósmoklasisty z danego przedmiotu lub przedmio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terminie dodatkowym, dyrektor okręgowej komisji egzaminacyjnej, na udokumentowany wniosek dyrektora szkoły, może zwolnić ucznia z obowiązku przystąpienia do Egzaminu ósmoklasisty z danego przedmiotu lub przedmiotów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yrektor szkoły składa wniosek w porozumieni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 rodzicami uczni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ytuł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  <p:sp>
        <p:nvSpPr>
          <p:cNvPr id="215" name="pole tekstowe 2"/>
          <p:cNvSpPr/>
          <p:nvPr/>
        </p:nvSpPr>
        <p:spPr>
          <a:xfrm>
            <a:off x="324000" y="907920"/>
            <a:ext cx="7488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Laureat i finalista olimpiady przedmiotowej wymienionej w wykazie Olimpiad oraz laureat konkursu przedmiotowego o zasięgu wojewódzkim lub ponadwojewódzkim, organizowanego z zakre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jednego z przedmiotów objętych egzaminem ósmoklasisty, są zwolnieni z egzaminu ósmoklasist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 tego przedmio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wolnienie następuje na podstawie zaświadczenia stwierdzającego uzyskanie przez ucznia tytułu odpowiednio laureata lub finalisty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aświadczenie przedkłada się przewodniczącemu zespołu egzaminacyj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olimpiady7-r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ole tekstowe 1"/>
          <p:cNvSpPr/>
          <p:nvPr/>
        </p:nvSpPr>
        <p:spPr>
          <a:xfrm>
            <a:off x="250920" y="949320"/>
            <a:ext cx="734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Egzamin ósmoklasisty jest przeprowadzany na podstawie wymagań określonych w podsta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ogramowej kształcenia ogó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o egzaminu ósmoklasisty z języka obcego nowożytnego uczeń przystępuje z tego języ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obcego nowożytnego, którego uczy się w szkol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ramach obowiązkowych zajęć edukacyj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Egzamin ósmoklasisty z języka obcego nowożytnego jest przeprowadzany wyłącznie na podstawie wymagań określonych w wariancie II.1. podstawy programowej kształcenia ogólnego w zakresie języka obcego nowożyt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ytuł 1" descr=""/>
          <p:cNvPicPr/>
          <p:nvPr/>
        </p:nvPicPr>
        <p:blipFill>
          <a:blip r:embed="rId1"/>
          <a:stretch/>
        </p:blipFill>
        <p:spPr>
          <a:xfrm>
            <a:off x="0" y="328680"/>
            <a:ext cx="74912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1"/>
          <p:cNvSpPr/>
          <p:nvPr/>
        </p:nvSpPr>
        <p:spPr>
          <a:xfrm>
            <a:off x="539640" y="981000"/>
            <a:ext cx="720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składają dyrektorowi szkoły, nie później niż do </a:t>
            </a:r>
            <a:br>
              <a:rPr sz="1800"/>
            </a:b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1 października 201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., pisemną deklaracj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kazującą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język obcy nowożyt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z którego uczeń  przystąpi do egzaminu ósmoklasisty (załącznik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lub słuchacz mogą złożyć dyrektorowi szkoły, nie później niż do </a:t>
            </a:r>
            <a:r>
              <a:rPr b="0" lang="pl-PL" sz="1800" spc="-1" strike="noStrike" u="sng">
                <a:solidFill>
                  <a:srgbClr val="0070c0"/>
                </a:solidFill>
                <a:uFillTx/>
                <a:latin typeface="Arial"/>
              </a:rPr>
              <a:t>15stycznia 2019r.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semną informację o zmianie języka obcego nowożytnego wskazanego w deklaracji na inny język obcy, którego uczeń lub słuchacz uczył się w ramach obowiązkowych zajęć edukacyjnych(załącznik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dy uczeń lub słuchacz uzyskał tytuł laureata lub finalisty olimpiady przedmiotowej wymienionej w wykazie olimpiad albo uzyskał tytuł laureata konkursu przedmiotowego o zasięg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m lub ponadwojewódzkim z innego języka obcego nowożytnego niż ten, który został zadeklarowany, dyrektor szkoły, na wniosek rodziców ucznia lub na wniosek słuchacza, złożony 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óźniej niż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do</a:t>
            </a:r>
            <a:r>
              <a:rPr b="0" lang="pl-PL" sz="1800" spc="-1" strike="noStrike" u="sng">
                <a:solidFill>
                  <a:srgbClr val="0070c0"/>
                </a:solidFill>
                <a:uFillTx/>
                <a:latin typeface="Arial"/>
              </a:rPr>
              <a:t>1 kwietnia2019r.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formuje okręgową komisję egzaminacyjną o zmianie języka obcego nowożyt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ytuł 1" descr=""/>
          <p:cNvPicPr/>
          <p:nvPr/>
        </p:nvPicPr>
        <p:blipFill>
          <a:blip r:embed="rId1"/>
          <a:stretch/>
        </p:blipFill>
        <p:spPr>
          <a:xfrm>
            <a:off x="146160" y="328680"/>
            <a:ext cx="74930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7:42:40Z</dcterms:created>
  <dc:creator>Operator</dc:creator>
  <dc:description/>
  <dc:language>en-US</dc:language>
  <cp:lastModifiedBy>mama</cp:lastModifiedBy>
  <dcterms:modified xsi:type="dcterms:W3CDTF">2018-09-25T13:53:53Z</dcterms:modified>
  <cp:revision>124</cp:revision>
  <dc:subject/>
  <dc:title>Slajd 1</dc:title>
</cp:coreProperties>
</file>