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9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27.jpeg" ContentType="image/jpe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C0BC-F8D1-40E7-876D-40845D7DF1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86D4-4615-4109-9F24-ADE6A8E4D8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217-9391-4BBB-A1EF-B498BD26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4F4-01F3-465D-A266-99B21389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DFA-DB01-48DA-A828-0BFED4D3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50B1-3E7C-429F-A8D2-E687AFCD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DAB-61AD-48B3-95E3-8536E744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8B5-E96E-4167-8880-0128681F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BB8-4DBA-4B46-9D8F-C0CD0729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DAC-8102-493B-953D-2053CA23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9A0-4DC9-4553-8AB2-27022814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B86-A0E1-4248-9EC9-33B650EA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F7A-284E-4AD7-B49A-AC139A93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950-5337-4730-9971-C35754AF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Prostokąt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9047-20DA-43A9-8270-DB47A05F55FD}" type="slidenum">
              <a:rPr b="0" lang="pl-PL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G:/egzamin8klasisty/Komunikat%20o%20dostosowaniach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lidos.pl/image/tid/4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szafa.pl/uploads/clothes/d110/113490/1230462606.jpg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images.google.pl/imgres?imgurl=http://sklep.legia.com/sklep/images/product/2e9d7008701e65237a6b1d980606bda4.jpg&amp;imgrefurl=http://sklep.legia.com/sklep/index.php?c=69&amp;p=99&amp;usg=__XmuytwEAVZCa2vg5OBzVP4uHITo=&amp;h=466&amp;w=466&amp;sz=39&amp;hl=pl&amp;start=3&amp;um=1&amp;tbnid=HlxH" TargetMode="External"/><Relationship Id="rId3" Type="http://schemas.openxmlformats.org/officeDocument/2006/relationships/image" Target="../media/image22.png"/><Relationship Id="rId4" Type="http://schemas.openxmlformats.org/officeDocument/2006/relationships/hyperlink" Target="http://images.google.pl/imgres?imgurl=http://www.math.niu.edu/~behr/Polish/Gottwald/Gnoinski/jg-legitymacja.jpg&amp;imgrefurl=http://www.math.niu.edu/~behr/Polish/Gottwald/Gnoinski/&amp;usg=__IZtVPpZ_rVIH1VI2VlBuxwEUOUE=&amp;h=425&amp;w=309&amp;sz=49&amp;hl=pl&amp;start=8&amp;tbnid=MTXFo6YMB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images.google.pl/imgres?imgurl=http://i.wp.pl/a/i/zakupy3/rqm/7023/x_13695.jpg&amp;imgrefurl=http://zakupy.wp.pl/Kalkulator-Biurowy-Bt-8003-2946-191571.html&amp;usg=__R0hzp12aW6GXnqfyLCBILYEC2Ik=&amp;h=450&amp;w=450&amp;sz=17&amp;hl=pl&amp;start=14&amp;tbnid=JmtyfJDfaHetvM:&amp;tbnh=127&amp;t" TargetMode="External"/><Relationship Id="rId3" Type="http://schemas.openxmlformats.org/officeDocument/2006/relationships/image" Target="../media/image26.jpeg"/><Relationship Id="rId4" Type="http://schemas.openxmlformats.org/officeDocument/2006/relationships/hyperlink" Target="http://images.google.pl/imgres?imgurl=http://www.swiat-zabawek.pl/galerie/b/baby-annabell-torba-z-ak_512.jpg&amp;imgrefurl=http://www.swiat-zabawek.pl/index.php?p809,baby-annabell-torba-z-akcesoriami&amp;usg=__eLmfOsWWFGssuS249ILBjOXxDlk=&amp;h=400&amp;w=400&amp;sz=28&amp;hl=pl&amp;start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pl/imgres?imgurl=http://www.hoopla.pl/images/action/TELSA1KOM0076_l.jpg&amp;imgrefurl=http://www.hoopla.pl/Samsung,SAMSUNG-Telefon-Komorkowy-SGH-E250-Czarny,prod,Opinions,58384.html&amp;usg=__h09S7RF-0-Xc9AQJddYoj8F_7ow=&amp;h=1336&amp;w=882&amp;sz=105&amp;hl=pl&amp;" TargetMode="External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olimpiady7-r.pdf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772b69"/>
                </a:solidFill>
                <a:latin typeface="Trebuchet MS"/>
              </a:rPr>
              <a:t>15, 16, 17 kwietnia 2019 r.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772b69"/>
                </a:solidFill>
                <a:latin typeface="Trebuchet MS"/>
              </a:rPr>
              <a:t>EGZAMIN ÓSMOKLASIST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772b69"/>
                </a:solidFill>
                <a:latin typeface="Times New Roman"/>
              </a:rPr>
              <a:t>Informacje dla rodziców i ucznió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ytuł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8715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-360" y="1483920"/>
            <a:ext cx="817236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Uczniowie (słuchacze) posiadający opinię / orzeczenie poradni psychologiczno-pedagogicznej lub zaświadczenie lekarskie o chorobie lub czasowej niesprawności oraz ci, którzy mają pozytywną opinię rady pedagogicznej, mają prawo do przystąpienia do egzaminu w warunkach i formie dostosowanych do ich dysfunkcji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zgodnie z Komunikatem dyrektora Centralnej Komisji Egzaminacyjnej z 20 sierpnia 2018r. w sprawie szczegółowych sposobów dostosowania warunków i form przeprowadzania egzaminu ósmoklasisty i egzaminu gimnazjalnego w roku szkolnym 2018/2019, opublikowanym na stronie internetowej CKE)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Trebuchet MS"/>
              </a:rPr>
              <a:t>Plik PDF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G:\egzamin8klasisty\Komunikat o dostosowaniach.pd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ytuł 1" descr=""/>
          <p:cNvPicPr/>
          <p:nvPr/>
        </p:nvPicPr>
        <p:blipFill>
          <a:blip r:embed="rId1"/>
          <a:stretch/>
        </p:blipFill>
        <p:spPr>
          <a:xfrm>
            <a:off x="79200" y="255600"/>
            <a:ext cx="7491600" cy="725400"/>
          </a:xfrm>
          <a:prstGeom prst="rect">
            <a:avLst/>
          </a:prstGeom>
          <a:ln w="0">
            <a:noFill/>
          </a:ln>
        </p:spPr>
      </p:pic>
      <p:sp>
        <p:nvSpPr>
          <p:cNvPr id="223" name="Prostokąt 2"/>
          <p:cNvSpPr/>
          <p:nvPr/>
        </p:nvSpPr>
        <p:spPr>
          <a:xfrm>
            <a:off x="684360" y="2136600"/>
            <a:ext cx="691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świadczenie o stanie zdrowia i opinię poradni psychologicz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pedagogicznej, przedkłada się dyrektorowi szkoły nie później niż do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15 października 2018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rektor szkoły lub upoważniony przez niego nauczyciel informuje na piśmie rodziców ucznia o wskazanym przez radę pedagogiczną sposobie lub sposobach dostosowa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runków lub formy przeprowadzania egzaminu ósmoklasis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jego potrzeb edukacyjnych i możliwości psychofizycznych, nie później niż do 20listopada 2018r.(załącznik 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dzice ucznia składają oświadczenie (również w załączniku 4b) o korzystaniu albo niekorzystaniu ze wskazanych sposobów dostosowania w terminie 3 dni roboczych od dnia otrzymania informacji, nie później niż do </a:t>
            </a: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23listopada 2018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4000" spc="-1" strike="noStrike">
                <a:solidFill>
                  <a:srgbClr val="000000"/>
                </a:solidFill>
                <a:latin typeface="Trebuchet MS"/>
              </a:rPr>
              <a:t>W dniu pisania egzaminu obowiązuje ubiór galowy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Picture 2" descr="Mundurki szkol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00080" y="3643200"/>
            <a:ext cx="1785960" cy="205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Zobacz obraz w pełnych rozmiarach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28800" y="5143680"/>
            <a:ext cx="2000160" cy="1333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6"/>
          <a:stretch/>
        </p:blipFill>
        <p:spPr>
          <a:xfrm>
            <a:off x="3657600" y="3657600"/>
            <a:ext cx="3819600" cy="2281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7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304560" y="1599840"/>
            <a:ext cx="79246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Uczniowie przychodzą do szkoły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o 8</a:t>
            </a:r>
            <a:r>
              <a:rPr b="0" lang="pl-PL" sz="3600" spc="-1" strike="noStrike" baseline="30000">
                <a:solidFill>
                  <a:srgbClr val="000000"/>
                </a:solidFill>
                <a:latin typeface="Trebuchet MS"/>
              </a:rPr>
              <a:t>20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 i w szatni czekają na wychowawcę.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Zebranie wszystkich klas o 8</a:t>
            </a:r>
            <a:r>
              <a:rPr b="0" lang="pl-PL" sz="3600" spc="-1" strike="noStrike" baseline="30000">
                <a:solidFill>
                  <a:srgbClr val="000000"/>
                </a:solidFill>
                <a:latin typeface="Trebuchet MS"/>
              </a:rPr>
              <a:t>30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w holu- II piętro,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rebuchet MS"/>
              </a:rPr>
              <a:t>kolejno 8a, 8b, 8c, 8d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ytuł 1" descr=""/>
          <p:cNvPicPr/>
          <p:nvPr/>
        </p:nvPicPr>
        <p:blipFill>
          <a:blip r:embed="rId1"/>
          <a:stretch/>
        </p:blipFill>
        <p:spPr>
          <a:xfrm>
            <a:off x="0" y="-648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267920"/>
            <a:ext cx="7238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Uczeń przynosi ze sobą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legitymację szkolną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przybory do pisania (pióro lub długopis czarno piszący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przybory do rysowania – </a:t>
            </a:r>
            <a:r>
              <a:rPr b="0" lang="pl-PL" sz="3200" spc="-1" strike="noStrike" u="sng">
                <a:solidFill>
                  <a:srgbClr val="ff0000"/>
                </a:solidFill>
                <a:uFillTx/>
                <a:latin typeface="Trebuchet MS"/>
              </a:rPr>
              <a:t>tylko linijk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(na matematykę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uczeń może wziąć ze sobą małą butelkę wody niegazowanej (stawia ją na podłodze przy stoliku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2" descr="http://tbn3.google.com/images?q=tbn:HlxHWKOgSoexIM:http://sklep.legia.com/sklep/images/product/2e9d7008701e65237a6b1d980606bda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11840" y="2206800"/>
            <a:ext cx="1231920" cy="1231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http://tbn1.google.com/images?q=tbn:MTXFo6YMBH9X5M:http://www.math.niu.edu/~behr/Polish/Gottwald/Gnoinski/jg-legitymacj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57920" y="1285920"/>
            <a:ext cx="8762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ytuł 1" descr=""/>
          <p:cNvPicPr/>
          <p:nvPr/>
        </p:nvPicPr>
        <p:blipFill>
          <a:blip r:embed="rId1"/>
          <a:stretch/>
        </p:blipFill>
        <p:spPr>
          <a:xfrm>
            <a:off x="219240" y="195120"/>
            <a:ext cx="7486560" cy="1273320"/>
          </a:xfrm>
          <a:prstGeom prst="rect">
            <a:avLst/>
          </a:prstGeom>
          <a:ln w="0">
            <a:noFill/>
          </a:ln>
        </p:spPr>
      </p:pic>
      <p:sp>
        <p:nvSpPr>
          <p:cNvPr id="237" name="pole tekstowe 2"/>
          <p:cNvSpPr/>
          <p:nvPr/>
        </p:nvSpPr>
        <p:spPr>
          <a:xfrm>
            <a:off x="179280" y="1052640"/>
            <a:ext cx="7993080" cy="57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1</a:t>
            </a: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. Każdy zdający powinien mieć na egzaminie ósmoklasisty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z każdego przedmiotu długopis (lub pióro) </a:t>
            </a:r>
            <a:r>
              <a:rPr b="0" lang="pl-PL" sz="2300" spc="-1" strike="noStrike" u="sng">
                <a:solidFill>
                  <a:srgbClr val="000000"/>
                </a:solidFill>
                <a:uFillTx/>
                <a:latin typeface="Trebuchet MS"/>
              </a:rPr>
              <a:t>z czarnym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tuszem (atramentem)przeznaczony do zapisywania rozwiązań (odpowiedzi). </a:t>
            </a:r>
            <a:r>
              <a:rPr b="0" i="1" lang="pl-PL" sz="2400" spc="-1" strike="noStrike">
                <a:solidFill>
                  <a:srgbClr val="ff0000"/>
                </a:solidFill>
                <a:latin typeface="Arial"/>
              </a:rPr>
              <a:t>Niedozwolone jest korzystanie z długopisów zmazywalnych / ścieralnych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2. Dodatkowo na egzaminie z matematyki każdy zdający powinien mieć </a:t>
            </a:r>
            <a:r>
              <a:rPr b="0" lang="pl-PL" sz="2300" spc="-1" strike="noStrike" u="sng">
                <a:solidFill>
                  <a:srgbClr val="ff0000"/>
                </a:solidFill>
                <a:uFillTx/>
                <a:latin typeface="Trebuchet MS"/>
              </a:rPr>
              <a:t>linijkę</a:t>
            </a: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. Rysunki –jeżeli trzeba je wykonać –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zdający wykonują długopisem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300" spc="-1" strike="noStrike" u="sng">
                <a:solidFill>
                  <a:srgbClr val="000000"/>
                </a:solidFill>
                <a:uFillTx/>
                <a:latin typeface="Trebuchet MS"/>
              </a:rPr>
              <a:t>Nie wykonuje się rysunków ołówkiem</a:t>
            </a: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rebuchet MS"/>
              </a:rPr>
              <a:t>3.Z dodatkowych materiałów oraz przyborów pomocniczych mogą korzystać zdający, którym dostosowano warunki przeprowadzania egzaminu ósmoklasisty. Zdający korzystają ze sprzętu, którego już używają w procesie dydaktyczny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ole tekstowe 1"/>
          <p:cNvSpPr/>
          <p:nvPr/>
        </p:nvSpPr>
        <p:spPr>
          <a:xfrm>
            <a:off x="395280" y="1341360"/>
            <a:ext cx="7056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Osoby z chorobami przewlekłymi, chore lub niesprawne czasowo mogą korzystać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rebuchet MS"/>
              </a:rPr>
              <a:t>z zaleconego przez lekarza sprzętu medycznego i leków koniecznych ze względu na chorob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ytuł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urządzeń telekomunikacyjnych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kalkulatoró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siatek, tore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maskotek itp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rebuchet MS"/>
              </a:rPr>
              <a:t>a w zegarkach wyłączyć odmierzacz czasu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Picture 2" descr="http://tbn2.google.com/images?q=tbn:JmtyfJDfaHetvM:http://i.wp.pl/a/i/zakupy3/rqm/7023/x_1369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2143080"/>
            <a:ext cx="1209600" cy="1209600"/>
          </a:xfrm>
          <a:prstGeom prst="rect">
            <a:avLst/>
          </a:prstGeom>
          <a:ln w="0">
            <a:noFill/>
          </a:ln>
        </p:spPr>
      </p:pic>
      <p:sp>
        <p:nvSpPr>
          <p:cNvPr id="242" name="Łącznik prosty 5"/>
          <p:cNvSpPr/>
          <p:nvPr/>
        </p:nvSpPr>
        <p:spPr>
          <a:xfrm>
            <a:off x="3571920" y="2071800"/>
            <a:ext cx="1500120" cy="121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Łącznik prosty 7"/>
          <p:cNvSpPr/>
          <p:nvPr/>
        </p:nvSpPr>
        <p:spPr>
          <a:xfrm flipH="1">
            <a:off x="3714480" y="207108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http://tbn3.google.com/images?q=tbn:TYerwL05HJBG7M:http://www.swiat-zabawek.pl/galerie/b/baby-annabell-torba-z-ak_512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29200" y="2357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245" name="Łącznik prosty 9"/>
          <p:cNvSpPr/>
          <p:nvPr/>
        </p:nvSpPr>
        <p:spPr>
          <a:xfrm flipH="1">
            <a:off x="5785920" y="235656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Łącznik prosty 10"/>
          <p:cNvSpPr/>
          <p:nvPr/>
        </p:nvSpPr>
        <p:spPr>
          <a:xfrm>
            <a:off x="5643720" y="2214720"/>
            <a:ext cx="1500120" cy="121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http://tbn2.google.com/images?q=tbn:zFCCnVxa2mPJ9M:http://www.hoopla.pl/images/action/TELSA1KOM0076_l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29040" y="4714920"/>
            <a:ext cx="942840" cy="142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http://tbn2.google.com/images?q=tbn:9pGmb4aufc6qnM:http://www.wrzuta.pl/img/file/mJzTeAfO8C/maskotka_pinboli"/>
          <p:cNvPicPr/>
          <p:nvPr/>
        </p:nvPicPr>
        <p:blipFill>
          <a:blip r:embed="rId8"/>
          <a:stretch/>
        </p:blipFill>
        <p:spPr>
          <a:xfrm>
            <a:off x="5715000" y="492912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249" name="Łącznik prosty 15"/>
          <p:cNvSpPr/>
          <p:nvPr/>
        </p:nvSpPr>
        <p:spPr>
          <a:xfrm>
            <a:off x="3643200" y="4714920"/>
            <a:ext cx="1500480" cy="121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Łącznik prosty 16"/>
          <p:cNvSpPr/>
          <p:nvPr/>
        </p:nvSpPr>
        <p:spPr>
          <a:xfrm>
            <a:off x="5500800" y="4857840"/>
            <a:ext cx="1500120" cy="121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Łącznik prosty 17"/>
          <p:cNvSpPr/>
          <p:nvPr/>
        </p:nvSpPr>
        <p:spPr>
          <a:xfrm flipH="1">
            <a:off x="5571720" y="485712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Łącznik prosty 18"/>
          <p:cNvSpPr/>
          <p:nvPr/>
        </p:nvSpPr>
        <p:spPr>
          <a:xfrm flipH="1">
            <a:off x="3642840" y="4785480"/>
            <a:ext cx="142884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0" y="1642680"/>
            <a:ext cx="8028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Zdający wchodzą do sali pojedynczo, według kolejności na liście i zajmują miejsca przy stolikach, których numery wylosowali. Każdy uczeń powinien mieć przy sobie dokument stwierdzający tożsamość (np. ważną legitymację szkolną) i okazać go, jeśli zostanie o to poproszon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2" descr="http://tbn0.google.com/images?q=tbn:uG189c_cvw21SM:http://www.gim3.zary.pl/images2004/egzamin2004_6.jpg"/>
          <p:cNvPicPr/>
          <p:nvPr/>
        </p:nvPicPr>
        <p:blipFill>
          <a:blip r:embed="rId2"/>
          <a:stretch/>
        </p:blipFill>
        <p:spPr>
          <a:xfrm>
            <a:off x="1714680" y="5286240"/>
            <a:ext cx="1304640" cy="981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http://tbn3.google.com/images?q=tbn:5_-PzR9UUd4nuM:http://home.elka.pw.edu.pl/~achrusto/wyniki_egzaminu1_SYST.gif"/>
          <p:cNvPicPr/>
          <p:nvPr/>
        </p:nvPicPr>
        <p:blipFill>
          <a:blip r:embed="rId3"/>
          <a:stretch/>
        </p:blipFill>
        <p:spPr>
          <a:xfrm>
            <a:off x="6357960" y="428760"/>
            <a:ext cx="134316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ytuł 1" descr=""/>
          <p:cNvPicPr/>
          <p:nvPr/>
        </p:nvPicPr>
        <p:blipFill>
          <a:blip r:embed="rId1"/>
          <a:stretch/>
        </p:blipFill>
        <p:spPr>
          <a:xfrm>
            <a:off x="0" y="-579600"/>
            <a:ext cx="7491240" cy="1152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-360" y="692280"/>
            <a:ext cx="8318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80240" indent="-48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8a2e4e"/>
                </a:solidFill>
                <a:latin typeface="Trebuchet MS"/>
              </a:rPr>
              <a:t>Po otrzymaniu arkusza (godz. 9.00 -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Uczniowie spóźnieni nie będą wpuszczani na salę</a:t>
            </a:r>
            <a:r>
              <a:rPr b="1" i="1" lang="pl-PL" sz="2400" spc="-1" strike="noStrike">
                <a:solidFill>
                  <a:srgbClr val="8a2e4e"/>
                </a:solidFill>
                <a:latin typeface="Trebuchet MS"/>
              </a:rPr>
              <a:t>)</a:t>
            </a:r>
            <a:r>
              <a:rPr b="1" i="1" lang="pl-PL" sz="3200" spc="-1" strike="noStrike">
                <a:solidFill>
                  <a:srgbClr val="8a2e4e"/>
                </a:solidFill>
                <a:latin typeface="Trebuchet MS"/>
              </a:rPr>
              <a:t> </a:t>
            </a:r>
            <a:br>
              <a:rPr sz="3200"/>
            </a:br>
            <a:r>
              <a:rPr b="1" i="1" lang="pl-PL" sz="2400" spc="-1" strike="noStrike">
                <a:solidFill>
                  <a:srgbClr val="000000"/>
                </a:solidFill>
                <a:latin typeface="Trebuchet MS"/>
              </a:rPr>
              <a:t>zdający ma obowiązek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80240" indent="-48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rebuchet MS"/>
              </a:rPr>
              <a:t>a) zapoznać się z instrukcją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80240" indent="-48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b) sprawdzić, czy materiały egzaminacyjne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są komplet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80240" indent="-48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c) sprawdzić, czy materiały egzaminacyjne zawierają wszystkie kolejno ponumerowane strony, czy są wyraźnie wydrukowane, czy w zeszycie zadań znajduje się wymieniona w instrukcji liczba zadań; braki powinien natychmiast zgłosić przewodniczącemu zespołu nadzorującego, po otrzymaniu kompletnego arkusza potwierdzić jego odbiór czytelnym podpisem w odpowiednim miejscu protokołu przebiegu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480240" indent="-4802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ytuł 1" descr=""/>
          <p:cNvPicPr/>
          <p:nvPr/>
        </p:nvPicPr>
        <p:blipFill>
          <a:blip r:embed="rId1"/>
          <a:stretch/>
        </p:blipFill>
        <p:spPr>
          <a:xfrm>
            <a:off x="0" y="328680"/>
            <a:ext cx="7491240" cy="115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6840" y="1609200"/>
            <a:ext cx="7643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i="1" lang="pl-PL" sz="2600" spc="-1" strike="noStrike">
                <a:solidFill>
                  <a:srgbClr val="000000"/>
                </a:solidFill>
                <a:latin typeface="Trebuchet MS"/>
              </a:rPr>
              <a:t>Prawa i obowiązki ucznia (słuchacza) przystępującego do egzaminu ósmoklasisty określa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rozporządzenie Ministra Edukacji Narodowej z dnia1 sierpnia 2017r. w sprawie szczegółowych warunków i sposobu przeprowadzania egzaminu ósmoklasisty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(Dz.U. z 2017r. poz. 1512)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28760" y="12855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d)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sprawdzić poprawność numeru PESEL na naklejkach przygotowanych przez OKE, zapisać swój trzyznakowy kod, numer PESEL oraz umieścić naklejki przygotowane przez OKE w wyznaczonych miejscach (w przypadku uczniów z afazją i uczniów ze specyficznymi trudnościami w uczeniu się czynności związane z kodowaniem wykonują członkowie zespołu nadzorującego)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11280" y="47628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b13f9a"/>
                </a:solidFill>
                <a:latin typeface="Arial"/>
              </a:rPr>
              <a:t>Kodow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ytuł 1" descr=""/>
          <p:cNvPicPr/>
          <p:nvPr/>
        </p:nvPicPr>
        <p:blipFill>
          <a:blip r:embed="rId1"/>
          <a:stretch/>
        </p:blipFill>
        <p:spPr>
          <a:xfrm>
            <a:off x="0" y="-6480"/>
            <a:ext cx="7491240" cy="987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-360" y="1052280"/>
            <a:ext cx="8172360" cy="54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Czas przeznaczony na rozwiązywanie zadań liczy się od momentu zapisania na tablicy (planszy) godziny rozpoczęcia pracy i wynosi odpowiednio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6804000" y="0"/>
            <a:ext cx="1147680" cy="1092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3"/>
          <a:stretch/>
        </p:blipFill>
        <p:spPr>
          <a:xfrm>
            <a:off x="0" y="2492280"/>
            <a:ext cx="847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ytuł 1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2876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Uczeń pracuje samodzielni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e przeszkadza innym (w przypadku naruszenia tego punktu przewodniczący może przerwać pracę i uczeń pisze powtórnie egzamin w innym terminie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Uczeń nie opuszcza sali ani swojego miejsca do momentu zakończenia pracy </a:t>
            </a:r>
            <a:r>
              <a:rPr b="0" i="1" lang="pl-PL" sz="2600" spc="-1" strike="noStrike">
                <a:solidFill>
                  <a:srgbClr val="000000"/>
                </a:solidFill>
                <a:latin typeface="Trebuchet MS"/>
              </a:rPr>
              <a:t>(może opuścić tylko w uzasadnionych przypadkach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pl-PL" sz="2600" spc="-1" strike="noStrike">
                <a:solidFill>
                  <a:srgbClr val="000000"/>
                </a:solidFill>
                <a:latin typeface="Trebuchet MS"/>
              </a:rPr>
              <a:t>i za zgodą przewodniczącego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e porozumiewa się z innymi i nie zadaje pytań nauczycielo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e wypowiada uwag i komentarz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ytuł 1" descr=""/>
          <p:cNvPicPr/>
          <p:nvPr/>
        </p:nvPicPr>
        <p:blipFill>
          <a:blip r:embed="rId1"/>
          <a:stretch/>
        </p:blipFill>
        <p:spPr>
          <a:xfrm>
            <a:off x="0" y="255600"/>
            <a:ext cx="7858080" cy="11588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Uczeń uważnie czyta treść kolejnych zadań zamkniętych i koduje wybrane odpowiedzi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odpowiednim miejscu tabeli na karcie odpowiedz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 u="sng">
                <a:solidFill>
                  <a:srgbClr val="ff0000"/>
                </a:solidFill>
                <a:uFillTx/>
                <a:latin typeface="Trebuchet MS"/>
              </a:rPr>
              <a:t>Uczniowie ze specyficznymi trudnościam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nie przenoszą odpowiedzi na kartę odpowiedzi, zaznaczają je tylko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pracy znakiem </a:t>
            </a:r>
            <a:r>
              <a:rPr b="1" lang="pl-PL" sz="2600" spc="-1" strike="noStrike">
                <a:solidFill>
                  <a:srgbClr val="000000"/>
                </a:solidFill>
                <a:latin typeface="Trebuchet MS"/>
              </a:rPr>
              <a:t>X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2"/>
          <a:stretch/>
        </p:blipFill>
        <p:spPr>
          <a:xfrm>
            <a:off x="5143680" y="4572000"/>
            <a:ext cx="189540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ytuł 1" descr=""/>
          <p:cNvPicPr/>
          <p:nvPr/>
        </p:nvPicPr>
        <p:blipFill>
          <a:blip r:embed="rId1"/>
          <a:stretch/>
        </p:blipFill>
        <p:spPr>
          <a:xfrm>
            <a:off x="0" y="255600"/>
            <a:ext cx="7448400" cy="1158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8360" y="16282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Zdający rozwiązuje zadania, zaznacza lub zapisuje odpowiedzi w wyznaczonych miejscach wyłącznie długopisem lub piórem z czarnym tuszem/atramentem (</a:t>
            </a:r>
            <a:r>
              <a:rPr b="0" lang="pl-PL" sz="2600" spc="-1" strike="noStrike">
                <a:solidFill>
                  <a:srgbClr val="ff0000"/>
                </a:solidFill>
                <a:latin typeface="Trebuchet MS"/>
              </a:rPr>
              <a:t>rysunki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również wykonuje </a:t>
            </a:r>
            <a:r>
              <a:rPr b="0" lang="pl-PL" sz="2600" spc="-1" strike="noStrike">
                <a:solidFill>
                  <a:srgbClr val="ff0000"/>
                </a:solidFill>
                <a:latin typeface="Trebuchet MS"/>
              </a:rPr>
              <a:t>długopisem)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e przyozdabia prac zbędnymi malunkam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Nigdzie nie podpisuje się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2"/>
          <a:stretch/>
        </p:blipFill>
        <p:spPr>
          <a:xfrm>
            <a:off x="5108400" y="4786200"/>
            <a:ext cx="16113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68000" y="476280"/>
            <a:ext cx="7389720" cy="59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przypadku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stwierdzenia niesamodzielnego rozwiązywania zadań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niesienia przez ucznia do sali urządzenia telekomunikacyjnego albo korzystania przez ucznia z urządzenia telekomunikacyjnego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sali egzaminacyjnej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zakłócania przez ucznia prawidłowego przebiegu egzaminu w sposób utrudniający pracę pozostałym uczniom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rzewodniczący SZE przerywa danemu uczniowi pracę z danym arkuszem egzaminacyjnym, unieważnia mu odpowiednią część egzamin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i nakazuje opuszczenie sali egzaminacyjnej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875640" y="0"/>
            <a:ext cx="110772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ytuł 1" descr=""/>
          <p:cNvPicPr/>
          <p:nvPr/>
        </p:nvPicPr>
        <p:blipFill>
          <a:blip r:embed="rId1"/>
          <a:stretch/>
        </p:blipFill>
        <p:spPr>
          <a:xfrm>
            <a:off x="0" y="-244440"/>
            <a:ext cx="7491240" cy="115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-360" y="83664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rzed wyjściem z sali uczeń powinien sprawdzić czy dobrze wpisał swój kod i numer PESEL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dwóch wyznaczonych miejscach oraz czy wykonał wszystkie polecenia i zaznaczył odpowiedzi do zadań zamkniętych na karcie odpowiedz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Jeśli zdający ukończył pracę przed czasem, zgłasza to zespołowi nadzorującemu </a:t>
            </a:r>
            <a:r>
              <a:rPr b="1" lang="pl-PL" sz="2200" spc="-1" strike="noStrike" u="sng">
                <a:solidFill>
                  <a:srgbClr val="000000"/>
                </a:solidFill>
                <a:uFillTx/>
                <a:latin typeface="Trebuchet MS"/>
              </a:rPr>
              <a:t>przez podniesienie ręki.  Pozostaje na swoim miejscu </a:t>
            </a: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dopóki nie uzyska zgody na opuszczenie sali po uprzednim sprawdzeniu przez członków zespołu nadzorującego :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pl-PL" sz="2100" spc="-1" strike="noStrike">
                <a:solidFill>
                  <a:srgbClr val="0070c0"/>
                </a:solidFill>
                <a:latin typeface="Trebuchet MS"/>
              </a:rPr>
              <a:t>poprawności kodowania,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Trebuchet MS"/>
              </a:rPr>
              <a:t>kompletności materiałów,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0" lang="pl-PL" sz="2100" spc="-1" strike="noStrike">
                <a:solidFill>
                  <a:srgbClr val="0070c0"/>
                </a:solidFill>
                <a:latin typeface="Trebuchet MS"/>
              </a:rPr>
              <a:t>wypełnienia karty odpowiedzi</a:t>
            </a:r>
            <a:r>
              <a:rPr b="0" lang="pl-PL" sz="2100" spc="-1" strike="noStrike">
                <a:solidFill>
                  <a:srgbClr val="6c6c6c"/>
                </a:solidFill>
                <a:latin typeface="Trebuchet MS"/>
              </a:rPr>
              <a:t>,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odobnie po zakończeniu czasu uczniowie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Trebuchet MS"/>
              </a:rPr>
              <a:t>pozostają na miejscach </a:t>
            </a: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dopóki nie uzyskają zgody na opuszczenie sali</a:t>
            </a:r>
            <a:r>
              <a:rPr b="0" lang="pl-PL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Tytuł 1" descr=""/>
          <p:cNvPicPr/>
          <p:nvPr/>
        </p:nvPicPr>
        <p:blipFill>
          <a:blip r:embed="rId1"/>
          <a:stretch/>
        </p:blipFill>
        <p:spPr>
          <a:xfrm>
            <a:off x="0" y="-244440"/>
            <a:ext cx="7491240" cy="1152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-360" y="83664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o upływie czasu przeznaczonego na rozwiązywanie zadań uczniowie, którzy przenoszą odpowiedzi na kartę, mają 5 dodatkowych minut, żeby sprawdzić poprawność wykonania tej czynności. Ten czas </a:t>
            </a:r>
            <a:r>
              <a:rPr b="1" lang="pl-PL" sz="2600" spc="-1" strike="noStrike" u="sng">
                <a:solidFill>
                  <a:srgbClr val="000000"/>
                </a:solidFill>
                <a:uFillTx/>
                <a:latin typeface="Trebuchet MS"/>
              </a:rPr>
              <a:t>nie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może być wykorzystany na rozwiązywanie zadań, a wyłącznie na weryfikację poprawności przeniesienia rozwiązań na kartę odpowiedzi. Po upływie 5 minut zdający kończą pracę z arkuszem egzaminacyjnym i stosują się do poleceń przewodniczącego zespołu nadzorującego. Zdający, którzy nie zdążyli przenieść odpowiedzi na kartę odpowiedzi, zgłaszają ten fakt nauczycielowi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ytuł 1" descr=""/>
          <p:cNvPicPr/>
          <p:nvPr/>
        </p:nvPicPr>
        <p:blipFill>
          <a:blip r:embed="rId1"/>
          <a:stretch/>
        </p:blipFill>
        <p:spPr>
          <a:xfrm>
            <a:off x="244440" y="208080"/>
            <a:ext cx="7461360" cy="657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071360"/>
            <a:ext cx="72388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o zakończeniu egzaminu nauczyciele nadzorujący egzamin pozostają w sali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rzenoszą na matrycę znaków trzyznakowy kod ucznia, porządkują prace, wkładają je do bezpiecznych kopert wraz z wypełnionymi i podpisanymi </a:t>
            </a:r>
            <a:r>
              <a:rPr b="1" i="1" lang="pl-PL" sz="2600" spc="-1" strike="noStrike">
                <a:solidFill>
                  <a:srgbClr val="000000"/>
                </a:solidFill>
                <a:latin typeface="Trebuchet MS"/>
              </a:rPr>
              <a:t>Protokołami sprawdzani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rzedstawiciele uczniów pozostają na sali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i przyglądają się czynnościom nauczyciel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isemne zastrzeżenia w sprawie naruszenia przepisów dotyczących przeprowadzenia egzaminu rozpatruje dyrektor OKE (zastrzeżenia te trzeba zgłosić najpóźniej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dwa dni od daty sprawdzianu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 txBox="1"/>
          <p:nvPr/>
        </p:nvSpPr>
        <p:spPr>
          <a:xfrm>
            <a:off x="500040" y="1356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race uczniów danej szkoły będą starannie ocenione przez zespół egzaminatorów przeszkolonych przez OKE. Wszyscy egzaminatorzy oceniający prace uczniów będą stosować jednolite w całej Polsce kryteria oceniani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ynik egzaminu ustali OKE na podstawie liczby punktów przyznanych przez egzaminatorów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ystawione przez OKE zaświadczenie o wyniku egzaminu uczeń odbiera w szkol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Laureaci konkursów przedmiotowych są zwolnieni z odpowiedniej części egzaminu, a na zaświadczeniu otrzymują najwyższy wynik z tej części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0" y="900000"/>
            <a:ext cx="8820000" cy="5058000"/>
          </a:xfrm>
          <a:prstGeom prst="rect">
            <a:avLst/>
          </a:prstGeom>
          <a:ln w="0">
            <a:noFill/>
          </a:ln>
        </p:spPr>
      </p:pic>
      <p:pic>
        <p:nvPicPr>
          <p:cNvPr id="208" name="Tytuł 1" descr=""/>
          <p:cNvPicPr/>
          <p:nvPr/>
        </p:nvPicPr>
        <p:blipFill>
          <a:blip r:embed="rId2"/>
          <a:stretch/>
        </p:blipFill>
        <p:spPr>
          <a:xfrm>
            <a:off x="1036800" y="-6480"/>
            <a:ext cx="64544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167680" cy="2736720"/>
          </a:xfrm>
          <a:prstGeom prst="rect">
            <a:avLst/>
          </a:prstGeom>
          <a:ln w="0">
            <a:noFill/>
          </a:ln>
        </p:spPr>
      </p:pic>
      <p:pic>
        <p:nvPicPr>
          <p:cNvPr id="284" name="Tytuł 1" descr=""/>
          <p:cNvPicPr/>
          <p:nvPr/>
        </p:nvPicPr>
        <p:blipFill>
          <a:blip r:embed="rId2"/>
          <a:stretch/>
        </p:blipFill>
        <p:spPr>
          <a:xfrm>
            <a:off x="237960" y="328680"/>
            <a:ext cx="7253280" cy="804960"/>
          </a:xfrm>
          <a:prstGeom prst="rect">
            <a:avLst/>
          </a:prstGeom>
          <a:ln w="0">
            <a:noFill/>
          </a:ln>
        </p:spPr>
      </p:pic>
      <p:sp>
        <p:nvSpPr>
          <p:cNvPr id="285" name="pole tekstowe 5"/>
          <p:cNvSpPr/>
          <p:nvPr/>
        </p:nvSpPr>
        <p:spPr>
          <a:xfrm>
            <a:off x="324000" y="4292640"/>
            <a:ext cx="792000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niki egzaminu nie będą miały wpływu na ukończenie szkoły podstawow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przypadku uczniów, których końcowa klasyfikacja zależy od wyników egzaminów klasyfikacyjnych, przekazanie zaświadczenia lub informacji o szczegółowych wynikach Egzaminu ósmoklasisty następuje po rozstrzygnięciu o klasyfikacji końcow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ytuł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8287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324000" y="1356840"/>
            <a:ext cx="7704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yniki egzaminu ósmoklasisty są przedstawiane w procentach i na skali centylowej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ynik ustalony przez OKE jest ostateczny. Zaświadczenie o wyniku zostanie przekazane do szkoł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Szczegółową informację o wyniku sprawdzianu wraz z komentarzem można będzie uzyskać także za pomocą internetowego </a:t>
            </a:r>
            <a:r>
              <a:rPr b="1" i="1" lang="pl-PL" sz="2600" spc="-1" strike="noStrike">
                <a:solidFill>
                  <a:srgbClr val="000000"/>
                </a:solidFill>
                <a:latin typeface="Trebuchet MS"/>
              </a:rPr>
              <a:t>systemu OBIEG (www.oke.krakow.pl). Termin udostępnienia powyższych informacji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będzie podany na stronie internetowej OK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7"/>
          <p:cNvSpPr/>
          <p:nvPr/>
        </p:nvSpPr>
        <p:spPr>
          <a:xfrm>
            <a:off x="250920" y="620640"/>
            <a:ext cx="7750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 wniosek ucznia lub jego rodziców (prawnych opiekunów) w miejscu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 czasie wskazanym przez dyrektora OKE uczniowi lub jego rodzicom (prawnym opiekunom) jest udostępniana do wglądu sprawdzona i oceniona praca ucznia, obejmująca materiały przekazane po sprawdzianie ze szkoły do O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499160" cy="27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15014f"/>
                </a:solidFill>
                <a:latin typeface="Trebuchet MS"/>
              </a:rPr>
              <a:t>Informacje o egzaminie 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15014f"/>
                </a:solidFill>
                <a:latin typeface="Trebuchet MS"/>
              </a:rPr>
              <a:t> dostępne na stronach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5280" y="3789360"/>
            <a:ext cx="74995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Trebuchet MS"/>
              </a:rPr>
              <a:t>www.oke.krakow.p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41b10"/>
                </a:solidFill>
                <a:latin typeface="Arial"/>
                <a:ea typeface="Arial"/>
              </a:rPr>
              <a:t>www.cke.edu.pl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8163000" cy="4968720"/>
          </a:xfrm>
          <a:prstGeom prst="rect">
            <a:avLst/>
          </a:prstGeom>
          <a:ln w="0">
            <a:noFill/>
          </a:ln>
        </p:spPr>
      </p:pic>
      <p:pic>
        <p:nvPicPr>
          <p:cNvPr id="210" name="pole tekstowe 2" descr=""/>
          <p:cNvPicPr/>
          <p:nvPr/>
        </p:nvPicPr>
        <p:blipFill>
          <a:blip r:embed="rId2"/>
          <a:stretch/>
        </p:blipFill>
        <p:spPr>
          <a:xfrm>
            <a:off x="738360" y="390600"/>
            <a:ext cx="7149960" cy="6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7839000" cy="2879640"/>
          </a:xfrm>
          <a:prstGeom prst="rect">
            <a:avLst/>
          </a:prstGeom>
          <a:ln w="0">
            <a:noFill/>
          </a:ln>
        </p:spPr>
      </p:pic>
      <p:pic>
        <p:nvPicPr>
          <p:cNvPr id="212" name="Tytuł 1" descr=""/>
          <p:cNvPicPr/>
          <p:nvPr/>
        </p:nvPicPr>
        <p:blipFill>
          <a:blip r:embed="rId2"/>
          <a:stretch/>
        </p:blipFill>
        <p:spPr>
          <a:xfrm>
            <a:off x="212760" y="-6480"/>
            <a:ext cx="749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rostokąt 1"/>
          <p:cNvSpPr/>
          <p:nvPr/>
        </p:nvSpPr>
        <p:spPr>
          <a:xfrm>
            <a:off x="324000" y="1341360"/>
            <a:ext cx="79200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szczególnych przypadkach losowych lub zdrowotnych, uniemożliwiających przystąpienie do egzaminu ósmoklasisty z danego przedmiotu lub przedmio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terminie dodatkowym, dyrektor okręgowej komisji egzaminacyjnej, na udokumentowany wniosek dyrektora szkoły, może zwolnić ucznia z obowiązku przystąpienia do Egzaminu ósmoklasisty z danego przedmiotu lub przedmiotów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Dyrektor szkoły składa wniosek w porozumieniu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z rodzicami ucznia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ytuł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871560"/>
          </a:xfrm>
          <a:prstGeom prst="rect">
            <a:avLst/>
          </a:prstGeom>
          <a:ln w="0">
            <a:noFill/>
          </a:ln>
        </p:spPr>
      </p:pic>
      <p:sp>
        <p:nvSpPr>
          <p:cNvPr id="215" name="pole tekstowe 2"/>
          <p:cNvSpPr/>
          <p:nvPr/>
        </p:nvSpPr>
        <p:spPr>
          <a:xfrm>
            <a:off x="324000" y="907920"/>
            <a:ext cx="74880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Laureat i finalista olimpiady przedmiotowej wymienionej w wykazie Olimpiad oraz laureat konkursu przedmiotowego o zasięgu wojewódzkim lub ponadwojewódzkim, organizowanego z zakre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jednego z przedmiotów objętych egzaminem ósmoklasisty, są zwolnieni z egzaminu ósmoklasist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z tego przedmio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Zwolnienie następuje na podstawie zaświadczenia stwierdzającego uzyskanie przez ucznia tytułu odpowiednio laureata lub finalisty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Zaświadczenie przedkłada się przewodniczącemu zespołu egzaminacyj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olimpiady7-r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ole tekstowe 1"/>
          <p:cNvSpPr/>
          <p:nvPr/>
        </p:nvSpPr>
        <p:spPr>
          <a:xfrm>
            <a:off x="250920" y="949320"/>
            <a:ext cx="734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Egzamin ósmoklasisty jest przeprowadzany na podstawie wymagań określonych w podstaw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programowej kształcenia ogó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Do egzaminu ósmoklasisty z języka obcego nowożytnego uczeń przystępuje z tego języ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obcego nowożytnego, którego uczy się w szkol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w ramach obowiązkowych zajęć edukacyj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rebuchet MS"/>
              </a:rPr>
              <a:t>Egzamin ósmoklasisty z języka obcego nowożytnego jest przeprowadzany wyłącznie na podstawie wymagań określonych w wariancie II.1. podstawy programowej kształcenia ogólnego w zakresie języka obcego nowożyt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ytuł 1" descr=""/>
          <p:cNvPicPr/>
          <p:nvPr/>
        </p:nvPicPr>
        <p:blipFill>
          <a:blip r:embed="rId1"/>
          <a:stretch/>
        </p:blipFill>
        <p:spPr>
          <a:xfrm>
            <a:off x="0" y="328680"/>
            <a:ext cx="74912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rostokąt 1"/>
          <p:cNvSpPr/>
          <p:nvPr/>
        </p:nvSpPr>
        <p:spPr>
          <a:xfrm>
            <a:off x="539640" y="981000"/>
            <a:ext cx="720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dzice ucznia składają dyrektorowi szkoły, nie później niż do </a:t>
            </a:r>
            <a:br>
              <a:rPr sz="1800"/>
            </a:br>
            <a:r>
              <a:rPr b="1" lang="pl-PL" sz="1800" spc="-1" strike="noStrike" u="sng">
                <a:solidFill>
                  <a:srgbClr val="ff0000"/>
                </a:solidFill>
                <a:uFillTx/>
                <a:latin typeface="Arial"/>
              </a:rPr>
              <a:t>1 października 2018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., pisemną deklaracj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skazującą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język obcy nowożyt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z którego uczeń  przystąpi do egzaminu ósmoklasisty (załącznik 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dzice ucznia lub słuchacz mogą złożyć dyrektorowi szkoły, nie później niż do </a:t>
            </a:r>
            <a:r>
              <a:rPr b="0" lang="pl-PL" sz="1800" spc="-1" strike="noStrike" u="sng">
                <a:solidFill>
                  <a:srgbClr val="0070c0"/>
                </a:solidFill>
                <a:uFillTx/>
                <a:latin typeface="Arial"/>
              </a:rPr>
              <a:t>15stycznia 2019r.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isemną informację o zmianie języka obcego nowożytnego wskazanego w deklaracji na inny język obcy, którego uczeń lub słuchacz uczył się w ramach obowiązkowych zajęć edukacyjnych(załącznik 3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rzypadku gdy uczeń lub słuchacz uzyskał tytuł laureata lub finalisty olimpiady przedmiotowej wymienionej w wykazie olimpiad albo uzyskał tytuł laureata konkursu przedmiotowego o zasięg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ojewódzkim lub ponadwojewódzkim z innego języka obcego nowożytnego niż ten, który został zadeklarowany, dyrektor szkoły, na wniosek rodziców ucznia lub na wniosek słuchacza, złożony 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óźniej niż </a:t>
            </a: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do</a:t>
            </a:r>
            <a:r>
              <a:rPr b="0" lang="pl-PL" sz="1800" spc="-1" strike="noStrike" u="sng">
                <a:solidFill>
                  <a:srgbClr val="0070c0"/>
                </a:solidFill>
                <a:uFillTx/>
                <a:latin typeface="Arial"/>
              </a:rPr>
              <a:t>1 kwietnia2019r.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nformuje okręgową komisję egzaminacyjną o zmianie języka obcego nowożyt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ytuł 1" descr=""/>
          <p:cNvPicPr/>
          <p:nvPr/>
        </p:nvPicPr>
        <p:blipFill>
          <a:blip r:embed="rId1"/>
          <a:stretch/>
        </p:blipFill>
        <p:spPr>
          <a:xfrm>
            <a:off x="146160" y="328680"/>
            <a:ext cx="749304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7:42:40Z</dcterms:created>
  <dc:creator>Operator</dc:creator>
  <dc:description/>
  <dc:language>en-US</dc:language>
  <cp:lastModifiedBy>mama</cp:lastModifiedBy>
  <dcterms:modified xsi:type="dcterms:W3CDTF">2018-09-25T13:53:53Z</dcterms:modified>
  <cp:revision>124</cp:revision>
  <dc:subject/>
  <dc:title>Slajd 1</dc:title>
</cp:coreProperties>
</file>